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792-0269-481A-9121-2043D2F2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E0-948D-436E-BCD2-AFB40E34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294-4727-498E-9348-498492BA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125-3451-4C6F-9771-E0B63F39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E49-C893-4508-BD61-E60B4B5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81E-D65D-4C1F-84FD-288A07A6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74B-9F4F-4203-9856-D69C653C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360-9A04-4E67-A749-49AAF2E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F86-00DC-4A97-9018-9C68F4F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BDE-1939-49DD-A090-07082F0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632-9706-496B-A212-936A24C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190-EAE3-424B-98D3-1E969359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0F3-11C3-4D12-9830-84072DC4B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6000159" descr=""/>
          <p:cNvPicPr/>
          <p:nvPr/>
        </p:nvPicPr>
        <p:blipFill>
          <a:blip r:embed="rId2"/>
          <a:stretch/>
        </p:blipFill>
        <p:spPr>
          <a:xfrm>
            <a:off x="14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2200" y="214200"/>
            <a:ext cx="749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لي بتجمعن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يي بتبقى مهما يص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منفرق بالأجن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له تجسد طفل صغ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خلص كل الناس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في عبد وما في ح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ة بالله تساوي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 الخالق زاح الش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دنا تخاوي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6000146" descr=""/>
          <p:cNvPicPr/>
          <p:nvPr/>
        </p:nvPicPr>
        <p:blipFill>
          <a:blip r:embed="rId1"/>
          <a:stretch/>
        </p:blipFill>
        <p:spPr>
          <a:xfrm>
            <a:off x="0" y="-11160"/>
            <a:ext cx="10287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7680" y="-57240"/>
            <a:ext cx="10348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هي اللي بتج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نيتنا زيحوا الم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ها تزهر ألو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الخالق أعذب ص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ادي السلا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هر الخالق خلى الشمس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زل بخيوطها ألو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لب الإن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و بيدخل مثل الهم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1:24Z</dcterms:created>
  <dc:creator>USER</dc:creator>
  <dc:description/>
  <dc:language>en-US</dc:language>
  <cp:lastModifiedBy>USER</cp:lastModifiedBy>
  <dcterms:modified xsi:type="dcterms:W3CDTF">2002-10-30T15:34:48Z</dcterms:modified>
  <cp:revision>1</cp:revision>
  <dc:subject/>
  <dc:title>PowerPoint Presentation</dc:title>
</cp:coreProperties>
</file>